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811-93F2-4476-B771-4C7286DD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E0E-BEB1-45B8-9D13-6C707F9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7D5-2579-4A32-A67C-7D16AD18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08B-026D-4F9E-B33D-B6B993E2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5EE-14B5-4B9B-8DE3-21F6F983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BEE-5752-4CD4-BC11-F71E2075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84F-E915-42C4-A04E-4A67C0D7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94A-67FB-4BE1-9703-81CF8DA8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7A7-9519-4C23-87F6-E1A622D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535-878D-4F4D-B7A0-DDB8FC4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E28-54FA-4666-8CE9-93EEE48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9C0-FA30-4FE0-B012-3968DB7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38B-035D-47B8-9342-A003E7B87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5053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8195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4,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9144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971080" y="9144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9144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1337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ET 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1337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CM 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337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Valclair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133720"/>
            <a:ext cx="1066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spell Magnus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MSA (form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T Swi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ydro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echnologies S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CM Resita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eco Ho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657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ydr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gineering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3657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CM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licenta AN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657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CM Tr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066680"/>
            <a:ext cx="7617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er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ult 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C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1066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ttel Inve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Cypr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25909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even Tr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3962520"/>
            <a:ext cx="914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omelec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50532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ower Consult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licenta AN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ximp Miner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dissolv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44197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ni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olding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licen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343400"/>
            <a:ext cx="914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tern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ul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ginee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60958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iance-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60958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M Al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Rus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miko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Hunga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617220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ni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362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cko S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0666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ergy 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Bulgar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1522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Arial"/>
              </a:rPr>
              <a:t>Energy Hol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Bucha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(licenta AN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6576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ob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esita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Former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om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ussi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u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609588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tomenergom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owned by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ussian govern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60958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Ziomar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Rus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3341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800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un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pany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Mark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un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2952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at Corpa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6765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ragos D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Moldo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289548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icolae Bogd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uzaia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914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9718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638320" y="25909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53341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tant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avor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32767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Viorel Gaf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81680" y="29718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238880" y="297180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86728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609588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o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bramov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41008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jan Hor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tant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5053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191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808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99036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48006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oris Golov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0004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0004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004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80060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ita C-tin Livi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inchis si grati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 Ili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5638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333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105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67057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019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94324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866920" y="6324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4724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52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00992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0992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00992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4:59:14Z</dcterms:created>
  <dc:creator>sorin</dc:creator>
  <dc:description/>
  <dc:language>en-US</dc:language>
  <cp:lastModifiedBy>dude</cp:lastModifiedBy>
  <dcterms:modified xsi:type="dcterms:W3CDTF">2006-09-03T14:40:39Z</dcterms:modified>
  <cp:revision>36</cp:revision>
  <dc:subject/>
  <dc:title>Slide 1</dc:title>
</cp:coreProperties>
</file>